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29B-0D47-4A85-8600-B5900595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763-64A5-4B28-8842-9E592F3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5F7-C5E9-4E34-A1CA-D9FBC24F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BBE-F98B-4D32-9C27-58CE66E0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000-6AF5-4E3C-874B-5F69E035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CF1-50C5-4E68-A692-F231598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7155-1245-46ED-9140-C298E1BD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DCF9-F594-47F1-A92B-CD9BEAE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58F-E862-44E2-B2CB-A834C128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850E-5CF4-48BB-BE0A-AB3BF28F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CFF3-B5AF-479C-A9FF-C4EFD7A2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FA9-6888-4BFD-A3F6-48433D29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D3C7-ECDC-4A73-A6FB-DE4BD67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218D-A7EB-43C5-A7EE-B35D060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E637-43B6-4B92-9D87-BC1A72F3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6DE1-8740-4F89-BBFB-58C12B6F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9024-49D8-457A-BC13-F9C9AC00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B314-CF2D-497E-8F4C-8A86D38A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0A5A-39BE-4B61-8988-41AD1B3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46FE-AC3F-48F7-96F2-4E679372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256F-27BC-4200-ADBE-AF9BC2CC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A1E3-BC25-4717-A06C-FB73B31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EE1-6F99-4C60-9A60-8E5C0F5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3451-8CD2-480A-A287-8EB42A79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9389-878D-416A-BA3A-490BBF0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2AA2-9D67-4CD0-B0A6-2856A99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D92A-6D71-44E9-9586-4C8749D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793E-A71E-40DC-B331-C9F95A77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67B8-E8C9-4E34-B209-716061F4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85CE-358F-49B1-83B3-6426FF36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4585-ADA8-4C84-9561-84E0965C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712B-2AAF-4EBB-99CB-4B057BF6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445F-0EEB-4B36-B8CD-A3554AD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C35-C9A1-4354-B5B0-692460D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1D64-98C6-464C-BF6B-A1EB68B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05BD-93A4-45D3-B99E-7713450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F4FC-1249-449B-9816-D369F9C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753B-A9AB-4D28-B677-53F4893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6511-053E-4F16-8140-A7B4100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42F0-5776-493F-B573-DA2B7818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DBD7-D851-4D2B-9CD6-CE7B47D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04B4-540E-4301-8C39-31744BF7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61E3-36D9-4AEE-8286-46DEA445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6D7-DC94-45A7-A651-DC1AFA1B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E48-588C-4EBF-8297-8AB08254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D04-D8FF-4308-B137-8E4B19F0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EFA-D25B-46C3-ABB8-82D031A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15E-8076-4522-8A0A-FF0F25D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321-FD4B-4FB2-A28D-2CE24CE2D8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C50-F6D9-459A-BE89-FA62CCB15F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58A-06DA-48EF-9804-0403CCB304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7A96-1263-4328-A294-F3A1516012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rnano.org/whati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echnological chang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hroughout 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Arnprior"/>
              </a:rPr>
              <a:t>First Wa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99840" y="160020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Agricultural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00BC--1650 --1750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Gina\AppData\Local\Microsoft\Windows\Temporary Internet Files\Content.IE5\MW3F40O8\MCj04355500000[1].wmf"/>
          <p:cNvPicPr/>
          <p:nvPr/>
        </p:nvPicPr>
        <p:blipFill>
          <a:blip r:embed="rId1"/>
          <a:stretch/>
        </p:blipFill>
        <p:spPr>
          <a:xfrm>
            <a:off x="419112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Gina\AppData\Local\Microsoft\Windows\Temporary Internet Files\Content.IE5\0WDKXMXX\MCj02317300000[1].wmf"/>
          <p:cNvPicPr/>
          <p:nvPr/>
        </p:nvPicPr>
        <p:blipFill>
          <a:blip r:embed="rId2"/>
          <a:stretch/>
        </p:blipFill>
        <p:spPr>
          <a:xfrm>
            <a:off x="6248520" y="4952880"/>
            <a:ext cx="2341440" cy="15573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685800" y="220968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 production and consumption of food, hunting &amp; gathering, families self-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 Extended; families tend to live on same land, close k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: home schooling, one-room school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: castes &amp; classes, authoritarian &amp; birth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: Energy from sun, wind &amp; water  “Living Batteries”, “energy slaves”; forest, rivers, people and animals could b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: Oral and Ges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C:\Users\Gina\AppData\Local\Microsoft\Windows\Temporary Internet Files\Content.IE5\MQB3RDI1\MCj01983040000[1].wmf"/>
          <p:cNvPicPr/>
          <p:nvPr/>
        </p:nvPicPr>
        <p:blipFill>
          <a:blip r:embed="rId3"/>
          <a:stretch/>
        </p:blipFill>
        <p:spPr>
          <a:xfrm>
            <a:off x="2590920" y="4775040"/>
            <a:ext cx="1417680" cy="208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C:\Users\Gina\AppData\Local\Microsoft\Windows\Temporary Internet Files\Content.IE5\INU31KSM\MCBD09540_0000[1].wmf"/>
          <p:cNvPicPr/>
          <p:nvPr/>
        </p:nvPicPr>
        <p:blipFill>
          <a:blip r:embed="rId4"/>
          <a:stretch/>
        </p:blipFill>
        <p:spPr>
          <a:xfrm>
            <a:off x="457200" y="5181480"/>
            <a:ext cx="1760400" cy="925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1"/>
          <p:cNvSpPr/>
          <p:nvPr/>
        </p:nvSpPr>
        <p:spPr>
          <a:xfrm>
            <a:off x="5334120" y="685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d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nprior"/>
              </a:rPr>
              <a:t>Second W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33520" y="19810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 mass production of food, trade, stores, corporations (190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 Nuclear (2 parent-home), extended families dist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: mass education, factory/assembly line focuses: rote &amp; repetitive work, punctuality, obe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: crisis &amp; strikes, coup d'états, w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: factories, assembly lines, refrigerator in kitchens, vitamins(increased life expectancy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:, transportation, tractors, post office (1837), telephone, typewriters, newspapers, 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01992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867280" y="1143000"/>
            <a:ext cx="19051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50-1950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1600200" y="13716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Industrial</a:t>
            </a:r>
            <a:r>
              <a:rPr b="1" lang="en-US" sz="1200" spc="-1" strike="noStrike">
                <a:solidFill>
                  <a:srgbClr val="000000"/>
                </a:solidFill>
                <a:latin typeface="Arnprior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Users\Gina\AppData\Local\Microsoft\Windows\Temporary Internet Files\Content.IE5\INU31KSM\MCj02979850000[1].wmf"/>
          <p:cNvPicPr/>
          <p:nvPr/>
        </p:nvPicPr>
        <p:blipFill>
          <a:blip r:embed="rId1"/>
          <a:stretch/>
        </p:blipFill>
        <p:spPr>
          <a:xfrm>
            <a:off x="762120" y="4724280"/>
            <a:ext cx="1670040" cy="1497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Gina\AppData\Local\Microsoft\Windows\Temporary Internet Files\Content.IE5\4W14BUGV\MCj02374860000[1].wmf"/>
          <p:cNvPicPr/>
          <p:nvPr/>
        </p:nvPicPr>
        <p:blipFill>
          <a:blip r:embed="rId2"/>
          <a:stretch/>
        </p:blipFill>
        <p:spPr>
          <a:xfrm>
            <a:off x="2666880" y="46483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Program Files\Microsoft Office\MEDIA\CAGCAT10\j0233312.wmf"/>
          <p:cNvPicPr/>
          <p:nvPr/>
        </p:nvPicPr>
        <p:blipFill>
          <a:blip r:embed="rId3"/>
          <a:stretch/>
        </p:blipFill>
        <p:spPr>
          <a:xfrm>
            <a:off x="5105520" y="48006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C:\Users\Gina\AppData\Local\Microsoft\Windows\Temporary Internet Files\Content.IE5\MW3F40O8\MCj04355980000[1].wmf"/>
          <p:cNvPicPr/>
          <p:nvPr/>
        </p:nvPicPr>
        <p:blipFill>
          <a:blip r:embed="rId4"/>
          <a:stretch/>
        </p:blipFill>
        <p:spPr>
          <a:xfrm>
            <a:off x="7467480" y="4343400"/>
            <a:ext cx="1432080" cy="175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nprior"/>
              </a:rPr>
              <a:t>Third W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440" y="1905120"/>
            <a:ext cx="8001000" cy="36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 oil and gas production (foreign), money exchange rates, global industries (trade &amp; trave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 2 working parent families, single-parent families, grand-parent /grand-child famil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: computer labs, online courses (virtual schools), LCD projectors, CD, inter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: capitalism, socialism, communism, world governments: UN, EU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: increased flights, cars &amp; busses, space exploration, drug &amp; vacci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: computers/laptops, internet, cell phones, webcams, instant messag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01992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943600" y="1143000"/>
            <a:ext cx="19810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50-presen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tent Placeholder 2"/>
          <p:cNvSpPr/>
          <p:nvPr/>
        </p:nvSpPr>
        <p:spPr>
          <a:xfrm>
            <a:off x="1523880" y="137160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Informational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aptop"/>
          <p:cNvSpPr/>
          <p:nvPr/>
        </p:nvSpPr>
        <p:spPr>
          <a:xfrm>
            <a:off x="4572000" y="51814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Gina\AppData\Local\Microsoft\Windows\Temporary Internet Files\Content.IE5\0WDKXMXX\MCj04125660000[1].wmf"/>
          <p:cNvPicPr/>
          <p:nvPr/>
        </p:nvPicPr>
        <p:blipFill>
          <a:blip r:embed="rId1"/>
          <a:stretch/>
        </p:blipFill>
        <p:spPr>
          <a:xfrm>
            <a:off x="6705720" y="4740120"/>
            <a:ext cx="1981080" cy="188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Gina\AppData\Local\Microsoft\Windows\Temporary Internet Files\Content.IE5\JE1JKFGT\MCj04239940000[1].wmf"/>
          <p:cNvPicPr/>
          <p:nvPr/>
        </p:nvPicPr>
        <p:blipFill>
          <a:blip r:embed="rId2"/>
          <a:stretch/>
        </p:blipFill>
        <p:spPr>
          <a:xfrm>
            <a:off x="533520" y="5105520"/>
            <a:ext cx="1866960" cy="1517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Gina\AppData\Local\Microsoft\Windows\Temporary Internet Files\Content.IE5\MW3F40O8\MCj04043590000[1].wmf"/>
          <p:cNvPicPr/>
          <p:nvPr/>
        </p:nvPicPr>
        <p:blipFill>
          <a:blip r:embed="rId3"/>
          <a:stretch/>
        </p:blipFill>
        <p:spPr>
          <a:xfrm>
            <a:off x="2514600" y="5025960"/>
            <a:ext cx="1803240" cy="152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Arnprior"/>
              </a:rPr>
              <a:t>Fourth Wa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1760" y="21337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ext wave will be what Dr. Thornburg &amp; Dr. Dede both predict. It will be a wave of creativity found through new innovative technologies; nano &amp; biotechnologies.  “It will offer better built, longer lasting, cleaner, safer, and smarter products for the home, for communications, for medicine, for transportation, for agriculture, and for industry in general.”  --Center for Responsible Nanotechnolo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01992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943600" y="11430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Near futur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914400" y="16002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nprior"/>
              </a:rPr>
              <a:t>Nano/biotechnology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nter for Responsible Nanotechnology (CRN)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crnano.org/whatis.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de, C. (Speaker). (2008). The Next Wave, Part 2. Laureate Education, Inc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rnburg, D. (Speaker). (2008). The Next Wave, Part 1. Laureate Education, In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ffler, Alvin. (1980). The Third Wave. New York: Bantam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52:53Z</dcterms:created>
  <dc:creator>Gina</dc:creator>
  <dc:description/>
  <dc:language>en-US</dc:language>
  <cp:lastModifiedBy>Gina</cp:lastModifiedBy>
  <dcterms:modified xsi:type="dcterms:W3CDTF">2009-03-16T01:40:49Z</dcterms:modified>
  <cp:revision>52</cp:revision>
  <dc:subject/>
  <dc:title>Strand One: Toffler’s Three Waves</dc:title>
</cp:coreProperties>
</file>